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628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A2F9E-EE5F-49AD-9EEE-562E849432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68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96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20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96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20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4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.laptop.org/go/XO_Troubleshooting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sts.laptop.org/" TargetMode="External"/><Relationship Id="rId2" Type="http://schemas.openxmlformats.org/officeDocument/2006/relationships/hyperlink" Target="http://wiki.laptop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.laptop.org/go/Releas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reuben@laptop.org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laptop.org/go/Deployment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1219320"/>
            <a:ext cx="1066680" cy="900000"/>
            <a:chOff x="1600200" y="1219320"/>
            <a:chExt cx="1066680" cy="900000"/>
          </a:xfrm>
        </p:grpSpPr>
        <p:sp>
          <p:nvSpPr>
            <p:cNvPr id="275" name=""/>
            <p:cNvSpPr/>
            <p:nvPr/>
          </p:nvSpPr>
          <p:spPr>
            <a:xfrm>
              <a:off x="1600200" y="1219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0200" y="12952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00200" y="2286000"/>
            <a:ext cx="1066680" cy="824040"/>
            <a:chOff x="1600200" y="2286000"/>
            <a:chExt cx="1066680" cy="824040"/>
          </a:xfrm>
        </p:grpSpPr>
        <p:sp>
          <p:nvSpPr>
            <p:cNvPr id="278" name=""/>
            <p:cNvSpPr/>
            <p:nvPr/>
          </p:nvSpPr>
          <p:spPr>
            <a:xfrm>
              <a:off x="1600200" y="2362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22860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62520" y="2666880"/>
            <a:ext cx="1066680" cy="824040"/>
            <a:chOff x="3962520" y="2666880"/>
            <a:chExt cx="1066680" cy="824040"/>
          </a:xfrm>
        </p:grpSpPr>
        <p:sp>
          <p:nvSpPr>
            <p:cNvPr id="281" name=""/>
            <p:cNvSpPr/>
            <p:nvPr/>
          </p:nvSpPr>
          <p:spPr>
            <a:xfrm>
              <a:off x="3962520" y="274320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6668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05320" y="1828800"/>
            <a:ext cx="1218960" cy="685800"/>
            <a:chOff x="3505320" y="1828800"/>
            <a:chExt cx="1218960" cy="685800"/>
          </a:xfrm>
        </p:grpSpPr>
        <p:sp>
          <p:nvSpPr>
            <p:cNvPr id="288" name=""/>
            <p:cNvSpPr/>
            <p:nvPr/>
          </p:nvSpPr>
          <p:spPr>
            <a:xfrm>
              <a:off x="3581280" y="1828800"/>
              <a:ext cx="1067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1981080"/>
              <a:ext cx="1218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6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2743200" y="1201680"/>
            <a:ext cx="121932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67080" y="2496600"/>
            <a:ext cx="180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76920" y="1582200"/>
            <a:ext cx="1440" cy="11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33720" y="3030120"/>
            <a:ext cx="144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20040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66680" y="1506600"/>
            <a:ext cx="45720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024440" y="1828800"/>
            <a:ext cx="595080" cy="565200"/>
            <a:chOff x="4024440" y="1828800"/>
            <a:chExt cx="595080" cy="56520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470480" y="208584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4920" y="1905120"/>
            <a:ext cx="595080" cy="565200"/>
            <a:chOff x="304920" y="1905120"/>
            <a:chExt cx="595080" cy="56520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50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0960" y="216216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1949400"/>
            <a:ext cx="593640" cy="565200"/>
            <a:chOff x="1828800" y="1949400"/>
            <a:chExt cx="593640" cy="5652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73400" y="220680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32280" y="2468520"/>
            <a:ext cx="595440" cy="565200"/>
            <a:chOff x="3932280" y="2468520"/>
            <a:chExt cx="595440" cy="56520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378320" y="2725560"/>
              <a:ext cx="14940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46480" y="2606760"/>
            <a:ext cx="595440" cy="565200"/>
            <a:chOff x="3246480" y="2606760"/>
            <a:chExt cx="595440" cy="56520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692520" y="286380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25920" y="2103480"/>
            <a:ext cx="595440" cy="565200"/>
            <a:chOff x="4525920" y="2103480"/>
            <a:chExt cx="595440" cy="565200"/>
          </a:xfrm>
        </p:grpSpPr>
        <p:pic>
          <p:nvPicPr>
            <p:cNvPr id="170" name="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971960" y="236052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/Rou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19080" y="2549160"/>
            <a:ext cx="399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521160" y="914400"/>
            <a:ext cx="1508040" cy="565200"/>
            <a:chOff x="3521160" y="914400"/>
            <a:chExt cx="1508040" cy="565200"/>
          </a:xfrm>
        </p:grpSpPr>
        <p:grpSp>
          <p:nvGrpSpPr>
            <p:cNvPr id="182" name=""/>
            <p:cNvGrpSpPr/>
            <p:nvPr/>
          </p:nvGrpSpPr>
          <p:grpSpPr>
            <a:xfrm>
              <a:off x="3521160" y="914400"/>
              <a:ext cx="593640" cy="565200"/>
              <a:chOff x="3521160" y="914400"/>
              <a:chExt cx="593640" cy="5652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39654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978360" y="914400"/>
              <a:ext cx="593640" cy="565200"/>
              <a:chOff x="3978360" y="914400"/>
              <a:chExt cx="593640" cy="5652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226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433760" y="914400"/>
              <a:ext cx="595440" cy="565200"/>
              <a:chOff x="4433760" y="914400"/>
              <a:chExt cx="595440" cy="565200"/>
            </a:xfrm>
          </p:grpSpPr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40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8798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490920" y="1477800"/>
            <a:ext cx="1508040" cy="565200"/>
            <a:chOff x="3490920" y="1477800"/>
            <a:chExt cx="1508040" cy="565200"/>
          </a:xfrm>
        </p:grpSpPr>
        <p:grpSp>
          <p:nvGrpSpPr>
            <p:cNvPr id="192" name=""/>
            <p:cNvGrpSpPr/>
            <p:nvPr/>
          </p:nvGrpSpPr>
          <p:grpSpPr>
            <a:xfrm>
              <a:off x="3490920" y="1477800"/>
              <a:ext cx="595440" cy="565200"/>
              <a:chOff x="3490920" y="1477800"/>
              <a:chExt cx="595440" cy="565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3936960" y="1735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48120" y="1477800"/>
              <a:ext cx="593640" cy="565200"/>
              <a:chOff x="3948120" y="1477800"/>
              <a:chExt cx="593640" cy="565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927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405320" y="1477800"/>
              <a:ext cx="593640" cy="565200"/>
              <a:chOff x="4405320" y="1477800"/>
              <a:chExt cx="593640" cy="565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8499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3124080" y="1981080"/>
            <a:ext cx="1509840" cy="565200"/>
            <a:chOff x="3124080" y="1981080"/>
            <a:chExt cx="1509840" cy="565200"/>
          </a:xfrm>
        </p:grpSpPr>
        <p:grpSp>
          <p:nvGrpSpPr>
            <p:cNvPr id="202" name=""/>
            <p:cNvGrpSpPr/>
            <p:nvPr/>
          </p:nvGrpSpPr>
          <p:grpSpPr>
            <a:xfrm>
              <a:off x="3124080" y="1981080"/>
              <a:ext cx="595440" cy="565200"/>
              <a:chOff x="3124080" y="1981080"/>
              <a:chExt cx="595440" cy="565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35701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581280" y="1981080"/>
              <a:ext cx="595440" cy="565200"/>
              <a:chOff x="3581280" y="1981080"/>
              <a:chExt cx="595440" cy="565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40273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038480" y="1981080"/>
              <a:ext cx="595440" cy="565200"/>
              <a:chOff x="4038480" y="1981080"/>
              <a:chExt cx="595440" cy="565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4845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20 Laptops / Access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Ser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368000" y="1155600"/>
            <a:ext cx="173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43000" y="2743200"/>
            <a:ext cx="1509840" cy="563400"/>
            <a:chOff x="1143000" y="2743200"/>
            <a:chExt cx="1509840" cy="563400"/>
          </a:xfrm>
        </p:grpSpPr>
        <p:grpSp>
          <p:nvGrpSpPr>
            <p:cNvPr id="216" name=""/>
            <p:cNvGrpSpPr/>
            <p:nvPr/>
          </p:nvGrpSpPr>
          <p:grpSpPr>
            <a:xfrm>
              <a:off x="1143000" y="2743200"/>
              <a:ext cx="595440" cy="563400"/>
              <a:chOff x="1143000" y="2743200"/>
              <a:chExt cx="595440" cy="56340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5890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600200" y="2743200"/>
              <a:ext cx="595440" cy="563400"/>
              <a:chOff x="1600200" y="2743200"/>
              <a:chExt cx="595440" cy="56340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20462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057400" y="2743200"/>
              <a:ext cx="595440" cy="563400"/>
              <a:chOff x="2057400" y="2743200"/>
              <a:chExt cx="595440" cy="563400"/>
            </a:xfrm>
          </p:grpSpPr>
          <p:pic>
            <p:nvPicPr>
              <p:cNvPr id="2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5034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549600" y="1630440"/>
            <a:ext cx="1509840" cy="565200"/>
            <a:chOff x="3549600" y="1630440"/>
            <a:chExt cx="1509840" cy="565200"/>
          </a:xfrm>
        </p:grpSpPr>
        <p:grpSp>
          <p:nvGrpSpPr>
            <p:cNvPr id="226" name=""/>
            <p:cNvGrpSpPr/>
            <p:nvPr/>
          </p:nvGrpSpPr>
          <p:grpSpPr>
            <a:xfrm>
              <a:off x="3549600" y="1630440"/>
              <a:ext cx="595440" cy="565200"/>
              <a:chOff x="3549600" y="1630440"/>
              <a:chExt cx="595440" cy="565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9956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006800" y="1630440"/>
              <a:ext cx="595440" cy="565200"/>
              <a:chOff x="4006800" y="1630440"/>
              <a:chExt cx="595440" cy="565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4528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464000" y="1630440"/>
              <a:ext cx="595440" cy="565200"/>
              <a:chOff x="4464000" y="1630440"/>
              <a:chExt cx="595440" cy="565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9100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505320" y="2224080"/>
            <a:ext cx="1508040" cy="565200"/>
            <a:chOff x="3505320" y="2224080"/>
            <a:chExt cx="1508040" cy="565200"/>
          </a:xfrm>
        </p:grpSpPr>
        <p:grpSp>
          <p:nvGrpSpPr>
            <p:cNvPr id="236" name=""/>
            <p:cNvGrpSpPr/>
            <p:nvPr/>
          </p:nvGrpSpPr>
          <p:grpSpPr>
            <a:xfrm>
              <a:off x="3505320" y="2224080"/>
              <a:ext cx="595080" cy="565200"/>
              <a:chOff x="3505320" y="2224080"/>
              <a:chExt cx="595080" cy="5652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951360" y="2481120"/>
                <a:ext cx="1490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62520" y="2224080"/>
              <a:ext cx="593640" cy="565200"/>
              <a:chOff x="3962520" y="2224080"/>
              <a:chExt cx="593640" cy="5652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44067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419720" y="2224080"/>
              <a:ext cx="593640" cy="565200"/>
              <a:chOff x="4419720" y="2224080"/>
              <a:chExt cx="593640" cy="5652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8639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2971800" y="2863800"/>
            <a:ext cx="1508040" cy="565200"/>
            <a:chOff x="2971800" y="2863800"/>
            <a:chExt cx="1508040" cy="565200"/>
          </a:xfrm>
        </p:grpSpPr>
        <p:grpSp>
          <p:nvGrpSpPr>
            <p:cNvPr id="246" name=""/>
            <p:cNvGrpSpPr/>
            <p:nvPr/>
          </p:nvGrpSpPr>
          <p:grpSpPr>
            <a:xfrm>
              <a:off x="2971800" y="2863800"/>
              <a:ext cx="595440" cy="565200"/>
              <a:chOff x="2971800" y="2863800"/>
              <a:chExt cx="595440" cy="565200"/>
            </a:xfrm>
          </p:grpSpPr>
          <p:pic>
            <p:nvPicPr>
              <p:cNvPr id="2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417840" y="3121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429000" y="2863800"/>
              <a:ext cx="593640" cy="565200"/>
              <a:chOff x="3429000" y="2863800"/>
              <a:chExt cx="593640" cy="565200"/>
            </a:xfrm>
          </p:grpSpPr>
          <p:pic>
            <p:nvPicPr>
              <p:cNvPr id="2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38736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886200" y="2863800"/>
              <a:ext cx="593640" cy="565200"/>
              <a:chOff x="3886200" y="2863800"/>
              <a:chExt cx="593640" cy="565200"/>
            </a:xfrm>
          </p:grpSpPr>
          <p:pic>
            <p:nvPicPr>
              <p:cNvPr id="25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43308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2163600" y="1476360"/>
            <a:ext cx="41148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09680" y="1887120"/>
            <a:ext cx="68580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506240" y="1522440"/>
            <a:ext cx="3999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-40 laptops per 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RF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/>
  <cp:revision>0</cp:revision>
  <dc:subject/>
  <dc:title>One Laptop per Child</dc:title>
</cp:coreProperties>
</file>